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BEE-0FAD-4885-B163-F8ACF8D1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977-D920-4EA1-ACD5-D72BA23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819-37CD-4C50-8A17-72AACFAF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93D-173E-4B41-8952-AD7922E5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CE64-7F21-4B1C-824F-5A6964AE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817-9BAE-4ECC-9785-0DA9C31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751A-88A7-45A1-BD93-0839166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8A3A-434B-439D-9480-5B820AD5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856-5364-4022-8D9D-6FD0D67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F94-DF01-45AC-A5A0-F469DB4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E764-4DAA-4513-BF1C-623D756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F51-548A-4564-94BB-C2F8637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3605-C4E8-481B-AA0E-79E77E8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ADC-D4A9-4FA4-A87C-5B949B8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A2D-C31C-4CF3-8BFB-1F0F072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732-A60C-40D6-91ED-005451FC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F823-3CC4-43EE-897B-A647AEAC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F6D-FD27-43A2-9357-6959ADF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D24-9646-4565-B072-C1FAA956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717-D2C0-4B42-985F-A1F885D3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74A-8625-4BAF-AF52-9C65377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BCE-9DBC-452D-B6E6-1C9C11B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3D8-B115-4E97-A03B-0DF0729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150-D305-47F7-9777-CFE6707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2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D5F-E22E-419D-9207-DB65A254026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46F-24C5-403B-BCE9-B4BD85C37C7F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hteck 6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hteck 7"/>
          <p:cNvSpPr/>
          <p:nvPr/>
        </p:nvSpPr>
        <p:spPr>
          <a:xfrm>
            <a:off x="125280" y="2286000"/>
            <a:ext cx="127080" cy="2286000"/>
          </a:xfrm>
          <a:prstGeom prst="rect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hteck 8"/>
          <p:cNvSpPr/>
          <p:nvPr/>
        </p:nvSpPr>
        <p:spPr>
          <a:xfrm>
            <a:off x="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hteck 9"/>
          <p:cNvSpPr/>
          <p:nvPr/>
        </p:nvSpPr>
        <p:spPr>
          <a:xfrm>
            <a:off x="125280" y="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hteck 10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hteck 11"/>
          <p:cNvSpPr/>
          <p:nvPr/>
        </p:nvSpPr>
        <p:spPr>
          <a:xfrm>
            <a:off x="125280" y="457200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2"/>
          <a:stretch/>
        </p:blipFill>
        <p:spPr>
          <a:xfrm>
            <a:off x="7451640" y="150840"/>
            <a:ext cx="1440000" cy="461880"/>
          </a:xfrm>
          <a:prstGeom prst="rect">
            <a:avLst/>
          </a:prstGeom>
          <a:ln w="0">
            <a:noFill/>
          </a:ln>
        </p:spPr>
      </p:pic>
      <p:sp>
        <p:nvSpPr>
          <p:cNvPr id="10" name="Rechteck 12"/>
          <p:cNvSpPr/>
          <p:nvPr/>
        </p:nvSpPr>
        <p:spPr>
          <a:xfrm rot="16200000">
            <a:off x="-1076760" y="5666040"/>
            <a:ext cx="227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15151"/>
                </a:solidFill>
                <a:latin typeface="Arial"/>
                <a:ea typeface="Arial"/>
              </a:rPr>
              <a:t>Mitglied in der Helmholtz-Gemeinschaf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6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7"/>
          <p:cNvSpPr/>
          <p:nvPr/>
        </p:nvSpPr>
        <p:spPr>
          <a:xfrm>
            <a:off x="125280" y="2286000"/>
            <a:ext cx="127080" cy="2286000"/>
          </a:xfrm>
          <a:prstGeom prst="rect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hteck 8"/>
          <p:cNvSpPr/>
          <p:nvPr/>
        </p:nvSpPr>
        <p:spPr>
          <a:xfrm>
            <a:off x="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9"/>
          <p:cNvSpPr/>
          <p:nvPr/>
        </p:nvSpPr>
        <p:spPr>
          <a:xfrm>
            <a:off x="125280" y="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hteck 10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11"/>
          <p:cNvSpPr/>
          <p:nvPr/>
        </p:nvSpPr>
        <p:spPr>
          <a:xfrm>
            <a:off x="125280" y="457200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451640" y="150840"/>
            <a:ext cx="1440000" cy="461880"/>
          </a:xfrm>
          <a:prstGeom prst="rect">
            <a:avLst/>
          </a:prstGeom>
          <a:ln w="0">
            <a:noFill/>
          </a:ln>
        </p:spPr>
      </p:pic>
      <p:sp>
        <p:nvSpPr>
          <p:cNvPr id="54" name="Rechteck 12"/>
          <p:cNvSpPr/>
          <p:nvPr/>
        </p:nvSpPr>
        <p:spPr>
          <a:xfrm rot="16200000">
            <a:off x="-1076760" y="5666040"/>
            <a:ext cx="227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15151"/>
                </a:solidFill>
                <a:latin typeface="Arial"/>
                <a:ea typeface="Arial"/>
              </a:rPr>
              <a:t>Mitglied in der Helmholtz-Gemeinschaf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6"/>
          <p:cNvSpPr/>
          <p:nvPr/>
        </p:nvSpPr>
        <p:spPr>
          <a:xfrm>
            <a:off x="250920" y="2286000"/>
            <a:ext cx="8893080" cy="4572000"/>
          </a:xfrm>
          <a:prstGeom prst="rect">
            <a:avLst/>
          </a:prstGeom>
          <a:solidFill>
            <a:srgbClr val="005b82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8"/>
          <p:cNvSpPr/>
          <p:nvPr/>
        </p:nvSpPr>
        <p:spPr>
          <a:xfrm>
            <a:off x="7308720" y="1440"/>
            <a:ext cx="183528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0" descr="logo_699cm"/>
          <p:cNvPicPr/>
          <p:nvPr/>
        </p:nvPicPr>
        <p:blipFill>
          <a:blip r:embed="rId3"/>
          <a:stretch/>
        </p:blipFill>
        <p:spPr>
          <a:xfrm>
            <a:off x="6194520" y="249120"/>
            <a:ext cx="2517840" cy="817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2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D7B-6FB4-4EBB-BB9C-0768D6D02D48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B94-3C3A-44AF-81D3-6AADC02E533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calhost:1080/testprovide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py.org/" TargetMode="External"/><Relationship Id="rId2" Type="http://schemas.openxmlformats.org/officeDocument/2006/relationships/hyperlink" Target="http://webpy.org/" TargetMode="External"/><Relationship Id="rId3" Type="http://schemas.openxmlformats.org/officeDocument/2006/relationships/hyperlink" Target="http://lxml.de/" TargetMode="External"/><Relationship Id="rId4" Type="http://schemas.openxmlformats.org/officeDocument/2006/relationships/hyperlink" Target="http://lxml.de/" TargetMode="External"/><Relationship Id="rId5" Type="http://schemas.openxmlformats.org/officeDocument/2006/relationships/hyperlink" Target="http://numpy.scipy.org/" TargetMode="External"/><Relationship Id="rId6" Type="http://schemas.openxmlformats.org/officeDocument/2006/relationships/hyperlink" Target="http://numpy.scipy.org/" TargetMode="External"/><Relationship Id="rId7" Type="http://schemas.openxmlformats.org/officeDocument/2006/relationships/hyperlink" Target="http://pypi.python.org/pypi/wsgilog/" TargetMode="External"/><Relationship Id="rId8" Type="http://schemas.openxmlformats.org/officeDocument/2006/relationships/hyperlink" Target="http://pypi.python.org/pypi/wsgilog/" TargetMode="External"/><Relationship Id="rId9" Type="http://schemas.openxmlformats.org/officeDocument/2006/relationships/hyperlink" Target="http://www.pyngl.ucar.edu/Nio.shtml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apps.datafed.net/nest/OW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WCS Server for CF-NetCD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499920"/>
            <a:ext cx="725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26920" y="4869000"/>
            <a:ext cx="7777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AQCoP Meeting, August 2011 | M. Decker, M. Schultz, K. Hoijarvi, R.B. Hus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nstall 3rd party software (see dependenc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t WCS server archive from SourceForge project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ndow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in32-ows-*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ux: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nux-ows-*.tar.g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ut archive contents into sensible location for server 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/usr/local/ow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Linux) o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C:\ow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Window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dd server dir to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PYTHONPATH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nvironm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57BA-0AF0-4B68-9041-1C58B2E9267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D974-D976-47DD-8730-BBCD92F9E64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: Insta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5640" y="1844280"/>
            <a:ext cx="8074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xample data dir  included: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testprov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76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example files (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wcs_capabilities.conf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that you can adapt for your own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reate NetCDF test cu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 web/static/testprovider/create_all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ract metadata for ope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al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eb/owsadmin.py wcs_prepare 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 the serv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eb/ows.py 10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heck if it wor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localhost:1080/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62D3-217D-429C-9FE8-09216ACCA30E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6AC-6C22-4C6E-B1E6-063F9CA92AA9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I: te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a data directory in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opulate it with (CF-compliant) NetCDF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e meta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reat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cs_capabilities.co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reate human-readabl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, but encourag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use the example files fro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un metadata extracto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admin.py wcs_prepare &lt;data dir na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eeds to be re-run after data dir content has been upd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so adapt the global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FF8-8597-4571-B6BA-5D4F9099D5FE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C93-34FE-439E-9230-7AAF1A090EB5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II: serving your data (NetCDF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D84-2D5F-442F-BDCB-2D017B2C5D6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C0B-18B1-4AB7-AAD5-9A86A617DF2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V: serving station data (SQ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haltsplatzhalter 6"/>
          <p:cNvSpPr/>
          <p:nvPr/>
        </p:nvSpPr>
        <p:spPr>
          <a:xfrm>
            <a:off x="611280" y="1700280"/>
            <a:ext cx="8074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a data directory in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SQL views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data: loc_code, lat, lon + op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 data: loc_code, lat, lon, datetime, parameter, fla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dit configu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QL database conn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SQL view name +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ime periodicity for each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QL data view name + fields for each parame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e metadata as with NetCD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The real work is done inside the SQL database when creatring SQL views, the rest is just listing the names!</a:t>
            </a:r>
            <a:r>
              <a:rPr b="0" i="1" lang="de-DE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11280" y="2204640"/>
            <a:ext cx="807408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art the standalone ser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.py [port number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default port: 108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ta will be available via WCS 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http://localhost:&lt;port&gt;/&lt;data dir&gt;?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1C7-0AE2-4DB6-86E3-23085180F471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7F95-4777-4158-883E-BC982AF17AC9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V: running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9C56-DFEA-4667-A211-8FFFFEB2226C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2C3-C3F5-41FE-A16F-40CBD51B8BEB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429000"/>
            <a:ext cx="61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04D-C237-4B9D-8746-5174FFA77F34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A422-F6C3-4AD7-B8BB-2778109C9FE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unctioning software package that implements a WCS compliant data server delivering NetCDF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Pyth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uns on Windows and Lin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WCS 1.1.2 Protoc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NetCDF 3 and NetCDF 4 large file form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station data from SQL datab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B39-C642-4618-8311-A3A9CF4DF427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6C2F-0F07-4D31-8DA6-AC6BACDC27B1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adata about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ilable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raction of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rectangular are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unding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 variabl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e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 points or ranges i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setting of other dimens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..the foundation for using interoperable web appl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E81D-05A8-4D23-B342-5A7D09BEE70B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25B-24D6-4BAA-96A8-615A3D746B3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WCS gives you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3C7-5908-4F8B-9471-A443C0AC736A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A193-8DA7-441F-B6EE-77F3F7F580C8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280" y="76464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High-Level view of W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056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948-1B84-4DB6-A5E1-EEAE4D24CE85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CA12-16DE-4CC2-BA64-66D9DF5E525D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280" y="76464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5b82"/>
                </a:solidFill>
                <a:latin typeface="Arial"/>
                <a:ea typeface="Arial"/>
              </a:rPr>
              <a:t>Example metadata response (GetCapabiliti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991-905A-438D-A8F4-ABAE32C3141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DCBD-D517-4DAD-9378-6CEDAFEF7D1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oftware Depend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1916280"/>
          <a:ext cx="8073720" cy="4051080"/>
        </p:xfrm>
        <a:graphic>
          <a:graphicData uri="http://schemas.openxmlformats.org/drawingml/2006/table">
            <a:tbl>
              <a:tblPr/>
              <a:tblGrid>
                <a:gridCol w="3682800"/>
                <a:gridCol w="2121120"/>
                <a:gridCol w="2269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(&gt;= X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U/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2.6 (but not 3 - y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web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.py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http://webpy.or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XML par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xml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http://lxml.de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numerical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Py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http://numpy.scipy.or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ging Backend for web.py (opt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giLog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http://pypi.python.org/pypi/wsgilo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netcdf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currently part of server package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http://www.pyngl.ucar.edu/Nio.shtml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r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CF4E-C561-458F-9BA5-C7D88349CB43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213-29D6-457C-AD3D-D0BD791833DF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83628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erver Con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73400" y="1268280"/>
            <a:ext cx="2997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A5F-9C7A-447A-AB09-B254F5F6175E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C1C-713E-48FD-93DF-A543E10FC4F6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erver Director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774800"/>
            <a:ext cx="1368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690560" y="3071880"/>
            <a:ext cx="136872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625840" y="3789360"/>
            <a:ext cx="13683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"/>
          <p:cNvCxnSpPr>
            <a:stCxn id="135" idx="2"/>
            <a:endCxn id="136" idx="1"/>
          </p:cNvCxnSpPr>
          <p:nvPr/>
        </p:nvCxnSpPr>
        <p:spPr>
          <a:xfrm flipH="1" rot="16200000">
            <a:off x="1022760" y="2620800"/>
            <a:ext cx="108180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6" idx="2"/>
            <a:endCxn id="137" idx="1"/>
          </p:cNvCxnSpPr>
          <p:nvPr/>
        </p:nvCxnSpPr>
        <p:spPr>
          <a:xfrm flipH="1" rot="16200000">
            <a:off x="2248560" y="3628800"/>
            <a:ext cx="502560" cy="2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5" idx="2"/>
            <a:endCxn id="141" idx="1"/>
          </p:cNvCxnSpPr>
          <p:nvPr/>
        </p:nvCxnSpPr>
        <p:spPr>
          <a:xfrm flipH="1" rot="16200000">
            <a:off x="1347480" y="2296080"/>
            <a:ext cx="43236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1690560" y="2422440"/>
            <a:ext cx="136872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5014800"/>
            <a:ext cx="17272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estprov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"/>
          <p:cNvCxnSpPr>
            <a:stCxn id="137" idx="2"/>
            <a:endCxn id="142" idx="1"/>
          </p:cNvCxnSpPr>
          <p:nvPr/>
        </p:nvCxnSpPr>
        <p:spPr>
          <a:xfrm flipH="1" rot="16200000">
            <a:off x="2967480" y="4562640"/>
            <a:ext cx="101052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3635280" y="5662440"/>
            <a:ext cx="17272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"/>
          <p:cNvCxnSpPr>
            <a:stCxn id="137" idx="2"/>
            <a:endCxn id="144" idx="1"/>
          </p:cNvCxnSpPr>
          <p:nvPr/>
        </p:nvCxnSpPr>
        <p:spPr>
          <a:xfrm flipH="1" rot="16200000">
            <a:off x="2643840" y="4886640"/>
            <a:ext cx="165816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3635280" y="4365720"/>
            <a:ext cx="1727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"/>
          <p:cNvCxnSpPr>
            <a:stCxn id="137" idx="2"/>
            <a:endCxn id="146" idx="1"/>
          </p:cNvCxnSpPr>
          <p:nvPr/>
        </p:nvCxnSpPr>
        <p:spPr>
          <a:xfrm flipH="1" rot="16200000">
            <a:off x="3292200" y="4237920"/>
            <a:ext cx="36108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3419640" y="2422440"/>
            <a:ext cx="2447640" cy="4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CDF interfac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"/>
          <p:cNvCxnSpPr>
            <a:stCxn id="141" idx="3"/>
            <a:endCxn id="148" idx="1"/>
          </p:cNvCxnSpPr>
          <p:nvPr/>
        </p:nvCxnSpPr>
        <p:spPr>
          <a:xfrm>
            <a:off x="3058920" y="2638440"/>
            <a:ext cx="361080" cy="2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419640" y="3070080"/>
            <a:ext cx="2447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 interfac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"/>
          <p:cNvCxnSpPr>
            <a:stCxn id="136" idx="3"/>
            <a:endCxn id="150" idx="1"/>
          </p:cNvCxnSpPr>
          <p:nvPr/>
        </p:nvCxnSpPr>
        <p:spPr>
          <a:xfrm flipV="1">
            <a:off x="3058920" y="3285360"/>
            <a:ext cx="361080" cy="25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500720" y="3790800"/>
            <a:ext cx="3240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 home 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"/>
          <p:cNvCxnSpPr>
            <a:stCxn id="137" idx="3"/>
            <a:endCxn id="152" idx="1"/>
          </p:cNvCxnSpPr>
          <p:nvPr/>
        </p:nvCxnSpPr>
        <p:spPr>
          <a:xfrm>
            <a:off x="3993840" y="4005360"/>
            <a:ext cx="506880" cy="21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867280" y="4367160"/>
            <a:ext cx="2303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 d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"/>
          <p:cNvCxnSpPr>
            <a:stCxn id="146" idx="3"/>
            <a:endCxn id="154" idx="1"/>
          </p:cNvCxnSpPr>
          <p:nvPr/>
        </p:nvCxnSpPr>
        <p:spPr>
          <a:xfrm>
            <a:off x="5362560" y="4581000"/>
            <a:ext cx="505440" cy="25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867280" y="5014800"/>
            <a:ext cx="2303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 data d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"/>
          <p:cNvCxnSpPr>
            <a:stCxn id="142" idx="3"/>
            <a:endCxn id="156" idx="1"/>
          </p:cNvCxnSpPr>
          <p:nvPr/>
        </p:nvCxnSpPr>
        <p:spPr>
          <a:xfrm>
            <a:off x="5362560" y="5230440"/>
            <a:ext cx="50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5867280" y="5664240"/>
            <a:ext cx="23036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ther data d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"/>
          <p:cNvCxnSpPr>
            <a:stCxn id="144" idx="3"/>
            <a:endCxn id="158" idx="1"/>
          </p:cNvCxnSpPr>
          <p:nvPr/>
        </p:nvCxnSpPr>
        <p:spPr>
          <a:xfrm>
            <a:off x="5362560" y="5878080"/>
            <a:ext cx="505440" cy="25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5564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de is OpenSource under The MIT Lice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llaboration Too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sipfed-Wiki: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ourceForge project page: forum, bugtra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RCS distributed version control system: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currently) two main repositories: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UST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nd FZ Juel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set up your own full-featured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information available on the SourceForge project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est-driven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it test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/test/unit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/test/integ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9EA-C2C5-440A-BB4D-9E73A817E3A8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C4B-0C79-407E-835C-34C1BE6890FA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0:53:40Z</dcterms:created>
  <dc:creator>Admin.Reisen</dc:creator>
  <dc:description/>
  <dc:language>en-US</dc:language>
  <cp:lastModifiedBy>Kari Hoijarvi</cp:lastModifiedBy>
  <cp:lastPrinted>2011-05-13T10:04:16Z</cp:lastPrinted>
  <dcterms:modified xsi:type="dcterms:W3CDTF">2011-08-09T19:03:30Z</dcterms:modified>
  <cp:revision>151</cp:revision>
  <dc:subject/>
  <dc:title>PowerPoint-Präsentation</dc:title>
</cp:coreProperties>
</file>